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A87-6E09-4F5E-81D7-7F9EB77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F10-61C7-48C3-91D1-9BF1D71B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526-999A-410F-B0B6-E4A9B993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4D5-B4B9-498B-B6AA-63220835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C44-FF98-462E-975B-AA3235D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41C-9FD1-4E11-BB74-316314D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A4A-F5A0-47E0-84E1-6EB9AE4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3CC-30F7-4AF2-A5D3-ECFCC513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E9A-C95E-4FAC-A019-B3A735DD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F61-89D6-4EE8-97B5-84C14C9D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0A0-AD65-4808-B5E2-EF716FA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F0D-790A-4164-BE57-8A17338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6D37-6621-46B7-B2B6-E989E7555C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hyperlink" Target="http://www.youtube.com/watch?v=M689a_hZ0C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0" y="260280"/>
            <a:ext cx="9144000" cy="6308280"/>
            <a:chOff x="0" y="260280"/>
            <a:chExt cx="9144000" cy="6308280"/>
          </a:xfrm>
        </p:grpSpPr>
        <p:sp>
          <p:nvSpPr>
            <p:cNvPr id="42" name="AutoShape 5"/>
            <p:cNvSpPr/>
            <p:nvPr/>
          </p:nvSpPr>
          <p:spPr>
            <a:xfrm>
              <a:off x="3898080" y="2780280"/>
              <a:ext cx="134532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3" name="Picture 13" descr="Daydream_CD_Front_Cover"/>
            <p:cNvPicPr/>
            <p:nvPr/>
          </p:nvPicPr>
          <p:blipFill>
            <a:blip r:embed="rId1"/>
            <a:stretch/>
          </p:blipFill>
          <p:spPr>
            <a:xfrm>
              <a:off x="272880" y="2865600"/>
              <a:ext cx="8845200" cy="370296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44" name="Rectangle 15"/>
            <p:cNvSpPr/>
            <p:nvPr/>
          </p:nvSpPr>
          <p:spPr>
            <a:xfrm>
              <a:off x="3209760" y="3439800"/>
              <a:ext cx="72360" cy="2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5" name="AutoShape 16"/>
            <p:cNvGrpSpPr/>
            <p:nvPr/>
          </p:nvGrpSpPr>
          <p:grpSpPr>
            <a:xfrm>
              <a:off x="0" y="260280"/>
              <a:ext cx="9144000" cy="2198880"/>
              <a:chOff x="0" y="260280"/>
              <a:chExt cx="9144000" cy="2198880"/>
            </a:xfrm>
          </p:grpSpPr>
          <p:pic>
            <p:nvPicPr>
              <p:cNvPr id="46" name="AutoShap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0280"/>
                <a:ext cx="9144000" cy="219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1290600" y="282600"/>
                <a:ext cx="6562440" cy="19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" name="Text Box 17"/>
            <p:cNvSpPr/>
            <p:nvPr/>
          </p:nvSpPr>
          <p:spPr>
            <a:xfrm>
              <a:off x="1066680" y="282240"/>
              <a:ext cx="624636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    </a:t>
              </a:r>
              <a:r>
                <a:rPr b="0" lang="en-US" sz="48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Michelle, Shamni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    </a:t>
              </a:r>
              <a:r>
                <a:rPr b="0" lang="en-US" sz="4800" spc="-1" strike="noStrike">
                  <a:solidFill>
                    <a:srgbClr val="ffff00"/>
                  </a:solidFill>
                  <a:latin typeface="Elephant"/>
                  <a:ea typeface="HY엽서M"/>
                </a:rPr>
                <a:t>Hyungsook, Sunny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aydreaming"/>
          <p:cNvPicPr/>
          <p:nvPr/>
        </p:nvPicPr>
        <p:blipFill>
          <a:blip r:embed="rId1"/>
          <a:stretch/>
        </p:blipFill>
        <p:spPr>
          <a:xfrm>
            <a:off x="0" y="0"/>
            <a:ext cx="2987640" cy="685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0" name="AutoShape 6"/>
          <p:cNvSpPr/>
          <p:nvPr/>
        </p:nvSpPr>
        <p:spPr>
          <a:xfrm>
            <a:off x="3995640" y="73080"/>
            <a:ext cx="424836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794840" y="204840"/>
            <a:ext cx="27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HY견고딕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3132000" y="1484280"/>
            <a:ext cx="6012000" cy="5373720"/>
          </a:xfrm>
          <a:prstGeom prst="foldedCorner">
            <a:avLst>
              <a:gd name="adj" fmla="val 6101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3276720" y="2205000"/>
            <a:ext cx="5848560" cy="3749760"/>
            <a:chOff x="3276720" y="2205000"/>
            <a:chExt cx="5848560" cy="3749760"/>
          </a:xfrm>
        </p:grpSpPr>
        <p:sp>
          <p:nvSpPr>
            <p:cNvPr id="54" name="AutoShape 9"/>
            <p:cNvSpPr/>
            <p:nvPr/>
          </p:nvSpPr>
          <p:spPr>
            <a:xfrm>
              <a:off x="3276720" y="2421000"/>
              <a:ext cx="364680" cy="35856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3424680" y="2205000"/>
              <a:ext cx="5700600" cy="3749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Visionary Fantasy 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Happy 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Pleasant Thoughts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Hopes or Ambitions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magine 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AutoShape 12"/>
            <p:cNvSpPr/>
            <p:nvPr/>
          </p:nvSpPr>
          <p:spPr>
            <a:xfrm>
              <a:off x="3276720" y="3141720"/>
              <a:ext cx="364680" cy="35856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AutoShape 13"/>
            <p:cNvSpPr/>
            <p:nvPr/>
          </p:nvSpPr>
          <p:spPr>
            <a:xfrm>
              <a:off x="3276720" y="3933720"/>
              <a:ext cx="364680" cy="35892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AutoShape 14"/>
            <p:cNvSpPr/>
            <p:nvPr/>
          </p:nvSpPr>
          <p:spPr>
            <a:xfrm>
              <a:off x="3276720" y="5375160"/>
              <a:ext cx="364680" cy="35892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AutoShape 15"/>
            <p:cNvSpPr/>
            <p:nvPr/>
          </p:nvSpPr>
          <p:spPr>
            <a:xfrm>
              <a:off x="3276720" y="4653000"/>
              <a:ext cx="364680" cy="358560"/>
            </a:xfrm>
            <a:custGeom>
              <a:avLst/>
              <a:gdLst>
                <a:gd name="textAreaLeft" fmla="*/ 112320 w 364680"/>
                <a:gd name="textAreaRight" fmla="*/ 252360 w 36468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27" h="226">
                  <a:moveTo>
                    <a:pt x="0" y="86"/>
                  </a:moveTo>
                  <a:lnTo>
                    <a:pt x="87" y="86"/>
                  </a:lnTo>
                  <a:lnTo>
                    <a:pt x="114" y="0"/>
                  </a:lnTo>
                  <a:lnTo>
                    <a:pt x="140" y="86"/>
                  </a:lnTo>
                  <a:lnTo>
                    <a:pt x="227" y="86"/>
                  </a:lnTo>
                  <a:lnTo>
                    <a:pt x="157" y="140"/>
                  </a:lnTo>
                  <a:lnTo>
                    <a:pt x="184" y="226"/>
                  </a:lnTo>
                  <a:lnTo>
                    <a:pt x="114" y="173"/>
                  </a:lnTo>
                  <a:lnTo>
                    <a:pt x="43" y="226"/>
                  </a:lnTo>
                  <a:lnTo>
                    <a:pt x="70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"/>
          <p:cNvGrpSpPr/>
          <p:nvPr/>
        </p:nvGrpSpPr>
        <p:grpSpPr>
          <a:xfrm>
            <a:off x="73080" y="73080"/>
            <a:ext cx="2122560" cy="6784920"/>
            <a:chOff x="73080" y="73080"/>
            <a:chExt cx="2122560" cy="6784920"/>
          </a:xfrm>
        </p:grpSpPr>
        <p:pic>
          <p:nvPicPr>
            <p:cNvPr id="61" name="Picture 4" descr="ANd9GcQmYxW74KtC_Sgo_sjY2FAJcoTes3fcnlGXoesEmzmniHSZ3APn"/>
            <p:cNvPicPr/>
            <p:nvPr/>
          </p:nvPicPr>
          <p:blipFill>
            <a:blip r:embed="rId1"/>
            <a:stretch/>
          </p:blipFill>
          <p:spPr>
            <a:xfrm>
              <a:off x="73080" y="73080"/>
              <a:ext cx="2122560" cy="306864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pic>
          <p:nvPicPr>
            <p:cNvPr id="62" name="Picture 6" descr="ANd9GcT6Y44s9riMaoVcIuVKGl9CofEitqmcNhle9PVcO4bvczG9Wzfz"/>
            <p:cNvPicPr/>
            <p:nvPr/>
          </p:nvPicPr>
          <p:blipFill>
            <a:blip r:embed="rId2"/>
            <a:stretch/>
          </p:blipFill>
          <p:spPr>
            <a:xfrm>
              <a:off x="73080" y="3141720"/>
              <a:ext cx="2122560" cy="371628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</p:grpSp>
      <p:sp>
        <p:nvSpPr>
          <p:cNvPr id="63" name="AutoShape 8"/>
          <p:cNvSpPr/>
          <p:nvPr/>
        </p:nvSpPr>
        <p:spPr>
          <a:xfrm>
            <a:off x="3995640" y="73080"/>
            <a:ext cx="424836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" name="Group 39"/>
          <p:cNvGrpSpPr/>
          <p:nvPr/>
        </p:nvGrpSpPr>
        <p:grpSpPr>
          <a:xfrm>
            <a:off x="2268360" y="1628640"/>
            <a:ext cx="7267680" cy="6892560"/>
            <a:chOff x="2268360" y="1628640"/>
            <a:chExt cx="7267680" cy="6892560"/>
          </a:xfrm>
        </p:grpSpPr>
        <p:sp>
          <p:nvSpPr>
            <p:cNvPr id="65" name="AutoShape 30"/>
            <p:cNvSpPr/>
            <p:nvPr/>
          </p:nvSpPr>
          <p:spPr>
            <a:xfrm>
              <a:off x="2268360" y="1628640"/>
              <a:ext cx="6875640" cy="5229360"/>
            </a:xfrm>
            <a:prstGeom prst="foldedCorner">
              <a:avLst>
                <a:gd name="adj" fmla="val 6101"/>
              </a:avLst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Text Box 33"/>
            <p:cNvSpPr/>
            <p:nvPr/>
          </p:nvSpPr>
          <p:spPr>
            <a:xfrm>
              <a:off x="2340000" y="1844640"/>
              <a:ext cx="7196040" cy="6676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Making careless mistakes</a:t>
              </a:r>
              <a:r>
                <a:rPr b="0" lang="en-US" sz="4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Forgetfulness, Avoiding tasks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Appearing not to listen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ifficulty concentrating on        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conversations</a:t>
              </a:r>
              <a:r>
                <a:rPr b="1" lang="en-US" sz="4000" spc="-1" strike="noStrike">
                  <a:solidFill>
                    <a:srgbClr val="ffff00"/>
                  </a:solidFill>
                  <a:latin typeface="굴림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Misplacing or  difficulty     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finding things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AutoShape 34"/>
            <p:cNvSpPr/>
            <p:nvPr/>
          </p:nvSpPr>
          <p:spPr>
            <a:xfrm>
              <a:off x="2340000" y="213372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AutoShape 35"/>
            <p:cNvSpPr/>
            <p:nvPr/>
          </p:nvSpPr>
          <p:spPr>
            <a:xfrm>
              <a:off x="2340000" y="278136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AutoShape 36"/>
            <p:cNvSpPr/>
            <p:nvPr/>
          </p:nvSpPr>
          <p:spPr>
            <a:xfrm>
              <a:off x="2340000" y="336060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AutoShape 37"/>
            <p:cNvSpPr/>
            <p:nvPr/>
          </p:nvSpPr>
          <p:spPr>
            <a:xfrm>
              <a:off x="2340000" y="4008600"/>
              <a:ext cx="291960" cy="21240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0640 h 212400"/>
                <a:gd name="textAreaBottom" fmla="*/ 161640 h 21240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AutoShape 38"/>
            <p:cNvSpPr/>
            <p:nvPr/>
          </p:nvSpPr>
          <p:spPr>
            <a:xfrm>
              <a:off x="2340000" y="5160960"/>
              <a:ext cx="291960" cy="212760"/>
            </a:xfrm>
            <a:custGeom>
              <a:avLst/>
              <a:gdLst>
                <a:gd name="textAreaLeft" fmla="*/ 90360 w 291960"/>
                <a:gd name="textAreaRight" fmla="*/ 201600 w 291960"/>
                <a:gd name="textAreaTop" fmla="*/ 81000 h 212760"/>
                <a:gd name="textAreaBottom" fmla="*/ 162000 h 212760"/>
              </a:gdLst>
              <a:ahLst/>
              <a:rect l="textAreaLeft" t="textAreaTop" r="textAreaRight" b="textAreaBottom"/>
              <a:pathLst>
                <a:path w="184" h="134">
                  <a:moveTo>
                    <a:pt x="0" y="51"/>
                  </a:moveTo>
                  <a:lnTo>
                    <a:pt x="70" y="51"/>
                  </a:lnTo>
                  <a:lnTo>
                    <a:pt x="92" y="0"/>
                  </a:lnTo>
                  <a:lnTo>
                    <a:pt x="114" y="51"/>
                  </a:lnTo>
                  <a:lnTo>
                    <a:pt x="184" y="51"/>
                  </a:lnTo>
                  <a:lnTo>
                    <a:pt x="127" y="83"/>
                  </a:lnTo>
                  <a:lnTo>
                    <a:pt x="149" y="134"/>
                  </a:lnTo>
                  <a:lnTo>
                    <a:pt x="92" y="102"/>
                  </a:lnTo>
                  <a:lnTo>
                    <a:pt x="35" y="134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ANd9GcRAu7vPcZ0O6YWRbErpimrh0jHkPkBueFMJXvw7MB-SqNWMUtZajA"/>
          <p:cNvPicPr/>
          <p:nvPr/>
        </p:nvPicPr>
        <p:blipFill>
          <a:blip r:embed="rId1"/>
          <a:stretch/>
        </p:blipFill>
        <p:spPr>
          <a:xfrm>
            <a:off x="3132000" y="115920"/>
            <a:ext cx="5902560" cy="1554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3" name="AutoShape 12"/>
          <p:cNvSpPr/>
          <p:nvPr/>
        </p:nvSpPr>
        <p:spPr>
          <a:xfrm>
            <a:off x="71280" y="216000"/>
            <a:ext cx="298800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auses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73080" y="1773360"/>
            <a:ext cx="9035640" cy="6309000"/>
            <a:chOff x="73080" y="1773360"/>
            <a:chExt cx="9035640" cy="6309000"/>
          </a:xfrm>
        </p:grpSpPr>
        <p:sp>
          <p:nvSpPr>
            <p:cNvPr id="75" name="AutoShape 7"/>
            <p:cNvSpPr/>
            <p:nvPr/>
          </p:nvSpPr>
          <p:spPr>
            <a:xfrm>
              <a:off x="73080" y="1773360"/>
              <a:ext cx="9035640" cy="5084640"/>
            </a:xfrm>
            <a:prstGeom prst="foldedCorner">
              <a:avLst>
                <a:gd name="adj" fmla="val 6101"/>
              </a:avLst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566280" y="2354400"/>
              <a:ext cx="180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AutoShape 16"/>
            <p:cNvSpPr/>
            <p:nvPr/>
          </p:nvSpPr>
          <p:spPr>
            <a:xfrm>
              <a:off x="293760" y="1916280"/>
              <a:ext cx="370800" cy="35856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890640" y="1773360"/>
              <a:ext cx="7895160" cy="630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Inability to Accept Reality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 person’s obsession with his own thoughts. </a:t>
              </a:r>
              <a:br>
                <a:rPr sz="3200"/>
              </a:b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ff99"/>
                  </a:solidFill>
                  <a:latin typeface="Times New Roman"/>
                </a:rPr>
                <a:t>ositive Activity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The process of creativity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Planning for the future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Learning from success and failure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Emotion regulation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99"/>
                  </a:solidFill>
                  <a:latin typeface="Times New Roman"/>
                </a:rPr>
                <a:t>Negative Activity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Waste a lot of time</a:t>
              </a:r>
              <a:r>
                <a:rPr b="0" lang="en-US" sz="3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Accident or Death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AutoShape 27"/>
            <p:cNvSpPr/>
            <p:nvPr/>
          </p:nvSpPr>
          <p:spPr>
            <a:xfrm>
              <a:off x="293760" y="2349360"/>
              <a:ext cx="370800" cy="35892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AutoShape 28"/>
            <p:cNvSpPr/>
            <p:nvPr/>
          </p:nvSpPr>
          <p:spPr>
            <a:xfrm>
              <a:off x="293760" y="2925720"/>
              <a:ext cx="370800" cy="35892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AutoShape 29"/>
            <p:cNvSpPr/>
            <p:nvPr/>
          </p:nvSpPr>
          <p:spPr>
            <a:xfrm>
              <a:off x="293760" y="5300640"/>
              <a:ext cx="370800" cy="358920"/>
            </a:xfrm>
            <a:custGeom>
              <a:avLst/>
              <a:gdLst>
                <a:gd name="textAreaLeft" fmla="*/ 114480 w 370800"/>
                <a:gd name="textAreaRight" fmla="*/ 256320 w 37080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ANd9GcQMAsQyg2_tTvRrIFP40zubrf6YeSwAFk2o7z5OVir81jNA64v4"/>
          <p:cNvPicPr/>
          <p:nvPr/>
        </p:nvPicPr>
        <p:blipFill>
          <a:blip r:embed="rId1"/>
          <a:stretch/>
        </p:blipFill>
        <p:spPr>
          <a:xfrm>
            <a:off x="108000" y="189000"/>
            <a:ext cx="3205080" cy="6597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3" name="AutoShape 6"/>
          <p:cNvSpPr/>
          <p:nvPr/>
        </p:nvSpPr>
        <p:spPr>
          <a:xfrm>
            <a:off x="3995640" y="73080"/>
            <a:ext cx="4248360" cy="1268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3348000" y="1484280"/>
            <a:ext cx="5473440" cy="5373720"/>
            <a:chOff x="3348000" y="1484280"/>
            <a:chExt cx="5473440" cy="5373720"/>
          </a:xfrm>
        </p:grpSpPr>
        <p:sp>
          <p:nvSpPr>
            <p:cNvPr id="85" name="AutoShape 5"/>
            <p:cNvSpPr/>
            <p:nvPr/>
          </p:nvSpPr>
          <p:spPr>
            <a:xfrm>
              <a:off x="3348000" y="1484280"/>
              <a:ext cx="5473440" cy="5373720"/>
            </a:xfrm>
            <a:prstGeom prst="foldedCorner">
              <a:avLst>
                <a:gd name="adj" fmla="val 6101"/>
              </a:avLst>
            </a:prstGeom>
            <a:gradFill rotWithShape="0">
              <a:gsLst>
                <a:gs pos="0">
                  <a:srgbClr val="762f00"/>
                </a:gs>
                <a:gs pos="50000">
                  <a:srgbClr val="ff6600"/>
                </a:gs>
                <a:gs pos="100000">
                  <a:srgbClr val="762f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voiding Triggers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ay Busy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- Avoid Procrastination 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ake Care of Yourself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ality Check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void Self Hatred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herapy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rugs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rayer, Meditation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3492360" y="170028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>
              <a:off x="3492360" y="213372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3492360" y="328464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AutoShape 11"/>
            <p:cNvSpPr/>
            <p:nvPr/>
          </p:nvSpPr>
          <p:spPr>
            <a:xfrm>
              <a:off x="3487680" y="3789360"/>
              <a:ext cx="365040" cy="35892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AutoShape 12"/>
            <p:cNvSpPr/>
            <p:nvPr/>
          </p:nvSpPr>
          <p:spPr>
            <a:xfrm>
              <a:off x="3487680" y="486900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AutoShape 13"/>
            <p:cNvSpPr/>
            <p:nvPr/>
          </p:nvSpPr>
          <p:spPr>
            <a:xfrm>
              <a:off x="3487680" y="4365720"/>
              <a:ext cx="365040" cy="35856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560"/>
                <a:gd name="textAreaBottom" fmla="*/ 274680 h 35856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AutoShape 14"/>
            <p:cNvSpPr/>
            <p:nvPr/>
          </p:nvSpPr>
          <p:spPr>
            <a:xfrm>
              <a:off x="3487680" y="6022800"/>
              <a:ext cx="365040" cy="358920"/>
            </a:xfrm>
            <a:custGeom>
              <a:avLst/>
              <a:gdLst>
                <a:gd name="textAreaLeft" fmla="*/ 112680 w 365040"/>
                <a:gd name="textAreaRight" fmla="*/ 252360 w 365040"/>
                <a:gd name="textAreaTop" fmla="*/ 136440 h 358920"/>
                <a:gd name="textAreaBottom" fmla="*/ 274680 h 358920"/>
              </a:gdLst>
              <a:ahLst/>
              <a:rect l="textAreaLeft" t="textAreaTop" r="textAreaRight" b="textAreaBottom"/>
              <a:pathLst>
                <a:path w="230" h="226">
                  <a:moveTo>
                    <a:pt x="0" y="86"/>
                  </a:moveTo>
                  <a:lnTo>
                    <a:pt x="88" y="86"/>
                  </a:lnTo>
                  <a:lnTo>
                    <a:pt x="115" y="0"/>
                  </a:lnTo>
                  <a:lnTo>
                    <a:pt x="142" y="86"/>
                  </a:lnTo>
                  <a:lnTo>
                    <a:pt x="230" y="86"/>
                  </a:lnTo>
                  <a:lnTo>
                    <a:pt x="159" y="140"/>
                  </a:lnTo>
                  <a:lnTo>
                    <a:pt x="186" y="226"/>
                  </a:lnTo>
                  <a:lnTo>
                    <a:pt x="115" y="173"/>
                  </a:lnTo>
                  <a:lnTo>
                    <a:pt x="44" y="226"/>
                  </a:lnTo>
                  <a:lnTo>
                    <a:pt x="71" y="14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AutoShape 12"/>
          <p:cNvSpPr/>
          <p:nvPr/>
        </p:nvSpPr>
        <p:spPr>
          <a:xfrm>
            <a:off x="3486240" y="5446800"/>
            <a:ext cx="365040" cy="358560"/>
          </a:xfrm>
          <a:custGeom>
            <a:avLst/>
            <a:gdLst>
              <a:gd name="textAreaLeft" fmla="*/ 112680 w 365040"/>
              <a:gd name="textAreaRight" fmla="*/ 252360 w 365040"/>
              <a:gd name="textAreaTop" fmla="*/ 136800 h 358560"/>
              <a:gd name="textAreaBottom" fmla="*/ 273960 h 358560"/>
            </a:gdLst>
            <a:ahLst/>
            <a:rect l="textAreaLeft" t="textAreaTop" r="textAreaRight" b="textAreaBottom"/>
            <a:pathLst>
              <a:path w="365125" h="358775">
                <a:moveTo>
                  <a:pt x="0" y="137039"/>
                </a:moveTo>
                <a:lnTo>
                  <a:pt x="139466" y="137040"/>
                </a:lnTo>
                <a:lnTo>
                  <a:pt x="182563" y="0"/>
                </a:lnTo>
                <a:lnTo>
                  <a:pt x="225659" y="137040"/>
                </a:lnTo>
                <a:lnTo>
                  <a:pt x="365125" y="137039"/>
                </a:lnTo>
                <a:lnTo>
                  <a:pt x="252294" y="221734"/>
                </a:lnTo>
                <a:lnTo>
                  <a:pt x="295392" y="358774"/>
                </a:lnTo>
                <a:lnTo>
                  <a:pt x="182563" y="274078"/>
                </a:lnTo>
                <a:lnTo>
                  <a:pt x="69733" y="358774"/>
                </a:lnTo>
                <a:lnTo>
                  <a:pt x="112831" y="22173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50000">
              <a:srgbClr val="0000ff"/>
            </a:gs>
            <a:gs pos="100000">
              <a:srgbClr val="0000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0e0000"/>
              </a:gs>
              <a:gs pos="50000">
                <a:srgbClr val="990000"/>
              </a:gs>
              <a:gs pos="100000">
                <a:srgbClr val="0e00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aydreaming Video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Picture 6" descr="MC900331029[1]"/>
          <p:cNvPicPr/>
          <p:nvPr/>
        </p:nvPicPr>
        <p:blipFill>
          <a:blip r:embed="rId1"/>
          <a:stretch/>
        </p:blipFill>
        <p:spPr>
          <a:xfrm rot="720000">
            <a:off x="178920" y="1915920"/>
            <a:ext cx="2952720" cy="230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900365792[1]"/>
          <p:cNvPicPr/>
          <p:nvPr/>
        </p:nvPicPr>
        <p:blipFill>
          <a:blip r:embed="rId2"/>
          <a:stretch/>
        </p:blipFill>
        <p:spPr>
          <a:xfrm>
            <a:off x="3276720" y="2565360"/>
            <a:ext cx="5327640" cy="33116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97" name="Rectangle 9"/>
          <p:cNvSpPr/>
          <p:nvPr/>
        </p:nvSpPr>
        <p:spPr>
          <a:xfrm>
            <a:off x="3087720" y="1844640"/>
            <a:ext cx="1543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day dra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23:34:50Z</dcterms:created>
  <dc:creator>Chris Kong</dc:creator>
  <dc:description/>
  <dc:language>en-US</dc:language>
  <cp:lastModifiedBy>vcurtis</cp:lastModifiedBy>
  <dcterms:modified xsi:type="dcterms:W3CDTF">2011-03-07T20:13:36Z</dcterms:modified>
  <cp:revision>28</cp:revision>
  <dc:subject/>
  <dc:title>Slide 1</dc:title>
</cp:coreProperties>
</file>